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824-C6C1-4B2D-B1D7-9771A839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8D4-AB13-46CF-9233-509E012A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EF3-F0DB-4F70-997C-F9B9184D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4F3-F78C-44B3-8E67-BFF94675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347-2AF0-460C-A5C8-08E3AE7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5E9-BE70-48EA-921A-3052E41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91A-C476-4095-A59B-5CE80678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663-B06C-4C4C-A800-D95E54DB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EF4-F01B-481C-B424-F28D5C45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3BE-13E1-4749-85A0-46EF822A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067-C907-44C1-8EB1-B904833D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A9E-38DB-43C8-817E-BDA73985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5345-0B9F-44DE-B42D-5C157EB93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ilecab3"/>
          <p:cNvSpPr/>
          <p:nvPr/>
        </p:nvSpPr>
        <p:spPr>
          <a:xfrm>
            <a:off x="0" y="476280"/>
            <a:ext cx="3203640" cy="12682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ubL"/>
          <p:cNvSpPr/>
          <p:nvPr/>
        </p:nvSpPr>
        <p:spPr>
          <a:xfrm>
            <a:off x="1332000" y="1628640"/>
            <a:ext cx="1274760" cy="1419480"/>
          </a:xfrm>
          <a:custGeom>
            <a:avLst/>
            <a:gdLst>
              <a:gd name="textAreaLeft" fmla="*/ 0 w 1274760"/>
              <a:gd name="textAreaRight" fmla="*/ 1275120 w 1274760"/>
              <a:gd name="textAreaTop" fmla="*/ 709920 h 1419480"/>
              <a:gd name="textAreaBottom" fmla="*/ 1419840 h 141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bPieSlice"/>
          <p:cNvSpPr/>
          <p:nvPr/>
        </p:nvSpPr>
        <p:spPr>
          <a:xfrm>
            <a:off x="1692360" y="2565360"/>
            <a:ext cx="182880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esklamp"/>
          <p:cNvSpPr/>
          <p:nvPr/>
        </p:nvSpPr>
        <p:spPr>
          <a:xfrm>
            <a:off x="3492360" y="2924280"/>
            <a:ext cx="905040" cy="9046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51280" y="2997360"/>
            <a:ext cx="1481040" cy="1527120"/>
            <a:chOff x="3851280" y="2997360"/>
            <a:chExt cx="1481040" cy="1527120"/>
          </a:xfrm>
        </p:grpSpPr>
        <p:sp>
          <p:nvSpPr>
            <p:cNvPr id="46" name="Gear"/>
            <p:cNvSpPr/>
            <p:nvPr/>
          </p:nvSpPr>
          <p:spPr>
            <a:xfrm>
              <a:off x="4672440" y="2997360"/>
              <a:ext cx="659880" cy="700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51280" y="3285720"/>
              <a:ext cx="789120" cy="837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62840" y="3594600"/>
              <a:ext cx="876960" cy="929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able"/>
          <p:cNvSpPr/>
          <p:nvPr/>
        </p:nvSpPr>
        <p:spPr>
          <a:xfrm>
            <a:off x="4932360" y="4005360"/>
            <a:ext cx="129528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ile"/>
          <p:cNvSpPr/>
          <p:nvPr/>
        </p:nvSpPr>
        <p:spPr>
          <a:xfrm>
            <a:off x="6084720" y="4653000"/>
            <a:ext cx="1592280" cy="1152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b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10800000">
            <a:off x="7380360" y="5300640"/>
            <a:ext cx="1504800" cy="1417680"/>
          </a:xfrm>
          <a:prstGeom prst="rect">
            <a:avLst/>
          </a:prstGeom>
          <a:ln w="0">
            <a:noFill/>
          </a:ln>
        </p:spPr>
      </p:pic>
      <p:sp>
        <p:nvSpPr>
          <p:cNvPr id="52" name="desk2"/>
          <p:cNvSpPr/>
          <p:nvPr/>
        </p:nvSpPr>
        <p:spPr>
          <a:xfrm>
            <a:off x="7704000" y="2924280"/>
            <a:ext cx="1440000" cy="13777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7687800">
            <a:off x="8153640" y="1213560"/>
            <a:ext cx="755640" cy="1728720"/>
          </a:xfrm>
          <a:custGeom>
            <a:avLst/>
            <a:gdLst>
              <a:gd name="textAreaLeft" fmla="*/ 101160 w 755640"/>
              <a:gd name="textAreaRight" fmla="*/ 654480 w 75564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esk1"/>
          <p:cNvSpPr/>
          <p:nvPr/>
        </p:nvSpPr>
        <p:spPr>
          <a:xfrm rot="12588600">
            <a:off x="7163640" y="4941000"/>
            <a:ext cx="1120680" cy="3812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ubHalfFrame"/>
          <p:cNvSpPr/>
          <p:nvPr/>
        </p:nvSpPr>
        <p:spPr>
          <a:xfrm rot="16200000">
            <a:off x="2195280" y="3933360"/>
            <a:ext cx="770040" cy="1201680"/>
          </a:xfrm>
          <a:custGeom>
            <a:avLst/>
            <a:gdLst>
              <a:gd name="textAreaLeft" fmla="*/ 0 w 770040"/>
              <a:gd name="textAreaRight" fmla="*/ 513360 w 770040"/>
              <a:gd name="textAreaTop" fmla="*/ 0 h 1201680"/>
              <a:gd name="textAreaBottom" fmla="*/ 400680 h 12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bHalfFrame"/>
          <p:cNvSpPr/>
          <p:nvPr/>
        </p:nvSpPr>
        <p:spPr>
          <a:xfrm rot="5400000">
            <a:off x="2914920" y="4509360"/>
            <a:ext cx="576360" cy="863640"/>
          </a:xfrm>
          <a:custGeom>
            <a:avLst/>
            <a:gdLst>
              <a:gd name="textAreaLeft" fmla="*/ 0 w 576360"/>
              <a:gd name="textAreaRight" fmla="*/ 384480 w 576360"/>
              <a:gd name="textAreaTop" fmla="*/ 0 h 863640"/>
              <a:gd name="textAreaBottom" fmla="*/ 28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ilecab2"/>
          <p:cNvSpPr/>
          <p:nvPr/>
        </p:nvSpPr>
        <p:spPr>
          <a:xfrm>
            <a:off x="6084720" y="1989000"/>
            <a:ext cx="2592720" cy="1224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wate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iagonalStripe"/>
          <p:cNvSpPr/>
          <p:nvPr/>
        </p:nvSpPr>
        <p:spPr>
          <a:xfrm rot="10800000">
            <a:off x="5940000" y="-360"/>
            <a:ext cx="1901880" cy="1989000"/>
          </a:xfrm>
          <a:custGeom>
            <a:avLst/>
            <a:gdLst>
              <a:gd name="textAreaLeft" fmla="*/ 0 w 1901880"/>
              <a:gd name="textAreaRight" fmla="*/ 1431360 w 1901880"/>
              <a:gd name="textAreaTop" fmla="*/ 0 h 1989000"/>
              <a:gd name="textAreaBottom" fmla="*/ 1497240 h 1989000"/>
            </a:gdLst>
            <a:ahLst/>
            <a:rect l="textAreaLeft" t="textAreaTop" r="textAreaRight" b="textAreaBottom"/>
            <a:pathLst>
              <a:path w="21600" h="21600">
                <a:moveTo>
                  <a:pt x="10914" y="0"/>
                </a:moveTo>
                <a:lnTo>
                  <a:pt x="0" y="10914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ilm"/>
          <p:cNvSpPr/>
          <p:nvPr/>
        </p:nvSpPr>
        <p:spPr>
          <a:xfrm rot="5400000">
            <a:off x="4195440" y="4021200"/>
            <a:ext cx="327240" cy="2600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115920"/>
            <a:ext cx="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0"/>
            <a:ext cx="934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esk1"/>
          <p:cNvSpPr/>
          <p:nvPr/>
        </p:nvSpPr>
        <p:spPr>
          <a:xfrm rot="9169800">
            <a:off x="6658920" y="4220640"/>
            <a:ext cx="1120680" cy="3812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ubRRectCallout"/>
          <p:cNvSpPr/>
          <p:nvPr/>
        </p:nvSpPr>
        <p:spPr>
          <a:xfrm rot="10800000">
            <a:off x="7797600" y="-387720"/>
            <a:ext cx="1346040" cy="1482840"/>
          </a:xfrm>
          <a:custGeom>
            <a:avLst/>
            <a:gdLst>
              <a:gd name="textAreaLeft" fmla="*/ 9000 w 1346040"/>
              <a:gd name="textAreaRight" fmla="*/ 1334160 w 1346040"/>
              <a:gd name="textAreaTop" fmla="*/ 9720 h 1482840"/>
              <a:gd name="textAreaBottom" fmla="*/ 1174320 h 14828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7081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98100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227664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479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530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0872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4508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32720" y="4436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4797360"/>
            <a:ext cx="64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8244000" y="285264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588000" y="105264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236000" y="333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4360" y="907920"/>
            <a:ext cx="37814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the water tank, the rubbish is removed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2535120" y="3376440"/>
            <a:ext cx="146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oil and sand are recyc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5805360"/>
            <a:ext cx="5933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lters get rid of toxic chemicals which are harmful to our environ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093080" y="5805360"/>
            <a:ext cx="158112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cks are recycle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16:41Z</dcterms:created>
  <dc:creator>Primary School</dc:creator>
  <dc:description/>
  <dc:language>en-US</dc:language>
  <cp:lastModifiedBy>Primary School</cp:lastModifiedBy>
  <dcterms:modified xsi:type="dcterms:W3CDTF">2009-06-10T00:32:23Z</dcterms:modified>
  <cp:revision>4</cp:revision>
  <dc:subject/>
  <dc:title>Slide 1</dc:title>
</cp:coreProperties>
</file>